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1393-82A1-4597-BC5D-CC2F1BB1BE59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D0FD-DD42-4C95-A8B9-9E8171DC0037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86C2-DED6-4771-8C42-3A7A6C4C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2B9-E49D-4558-9B98-A92BB089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CEC-5E32-4158-B9B7-8C67F633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C57-F5A2-43B7-A901-D3EF70B3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5D80-7799-4DDA-B836-83EF1658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2C65-D3BA-4E82-A901-C0C9D917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BA08-1BEE-4208-B0E9-613024C0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2E47-0923-4F52-8409-C4FAA57B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BB9D-C640-457B-9BBA-830670BB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7C0F-DB42-4C51-B31D-388F5CD1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5ACA-D563-4945-BE81-4DABB457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60B-93AD-45FF-93E6-2F980BAC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D8DD-D935-4066-902B-6F368FBC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C2A6-F4F6-4F4D-A2EE-935C8454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E3A9-7D89-4CE6-B79B-0769D54C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AD52-6505-4159-8B04-D1FA422C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1393-4977-4B7D-B684-1407F0CA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F0AC9-2FB0-4E9E-A862-07FA6E70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B8179-3A92-4440-8646-948B2B99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D84B0-A385-4EB4-989F-D35AC918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D30B7-1E3C-4EA5-8A0A-69A3D9F2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C4F24-9CB4-4B34-84A8-6365B64C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CD17-D528-43EC-B6B4-2A5F1396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BF42A-49C9-4476-9791-59A39E0A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A9E81-8118-496F-B3D7-691D5375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640C5-3FDE-4B0E-8A27-B3B3186D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5592B-775D-4B1B-9650-B3FF7089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714BC-BB1B-475B-9790-A7E42F77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F28D2-2A8B-451F-8AEB-CA90C36F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C7550-323B-4669-A4C7-12F0D8F5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F757D-1027-4EE2-B09C-591B21AD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F5052-41E9-4DC2-99DA-6315C16A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54076-AA31-4634-B587-D1F6CECE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8DB-AB80-4CBE-8566-1001A8BA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B2031-F8FB-48B6-B6FC-79BB32A1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3CB8C-EFBA-4B12-B39D-CAE1240D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B5F80-45FE-41C7-8EB7-DD0B216C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4C0C9-DE79-4914-B683-D1691010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9D248-D082-4CEA-8B63-A99C136B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9AFE9-8ED3-4327-BC27-E705DF1C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F2949-7E56-4584-B63C-A629CC4C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E3961-BBD2-4599-BE49-41CD7A58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47730-A6C7-4A36-BFC2-B9545D21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8D2D0-CEA1-4D43-AB0B-0C30E288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98F7-913D-49BA-803E-679E8B36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4823A-66F0-41B0-862A-B44FE6C9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DDB25-959D-49B6-B64C-440F9EFD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CAC08-2646-4BFD-B39D-C5C676E4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E67A9-335B-4983-B82B-F41514F0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A2E85-71DD-4028-ADD0-65E5839D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F561E-B3B5-4F09-85F9-9CB59842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F7C48-F5F6-443D-82CD-CB6F7E9B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E209D-C00A-4454-BD40-D5AD6B27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32820-E0FC-47FC-A084-A768B806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569DE-43CF-4C6A-B277-8F262C93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C47-3644-412F-9DD8-1249F5F1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8E47C-E744-45C0-8E94-905C5DCC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E911A-0DAB-492B-8884-D230DFBF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C40F6-C489-4D63-9822-B88BAB3A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9F8E4-154D-4156-BFE8-1F70AF1B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49DDA-5322-4BBE-BFF2-DBADBBEF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0757A-458B-4637-9775-13C9C167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52AB4-E82D-4BB1-A050-866F75D2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E18D7-21B9-46D8-AA59-B4EFAD8A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C6EB5-91B6-4C57-8A4A-7F925665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C7C7F-265A-48F2-8FFB-11FAF966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6EF2-FD37-4428-9B96-411C12EA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246AB-1999-4FE7-A6B8-46128DB9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C4407-2179-4716-94BD-F0440C85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9F49D-505A-415F-A2C7-74EC2A29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AF5DF-D73E-4D27-9A5A-EDF709F2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EC949-DDAD-4ACF-94EC-375CDF64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6075C-0472-4775-8B2A-4D94DB7B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56374-C64F-47A8-94C9-CD90E000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2AAF8-1FD0-424B-89FE-D326C4ED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150F3-C73C-47D7-B6D0-D6807A4B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BD1D2-D150-4066-B8A4-BB32D2D7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0DD8-38FF-406F-8042-F5EBC635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80A91-247C-4AFE-9CAF-571565A2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892CC-02E9-4E20-A009-D29B614E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4F498-41F6-4D6D-AB31-62EBB0BA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8F959-75C8-40FF-A893-8D84A43B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2CDC0-ED80-45B7-842C-ABC7662C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2D0-D57A-46C1-ACF9-7A74B7C9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7662-19DF-4EA9-8ECD-054AD1DCE7CE}" type="slidenum">
              <a:rPr b="0" lang="ca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19B0-0D95-4B51-9AA6-4618F7DF978B}" type="slidenum">
              <a:rPr b="0" lang="ca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6831-07CD-4FBF-862A-EB07816F6AA4}" type="slidenum">
              <a:rPr b="0" lang="ca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0B69-1FB0-485C-B61E-7B5E16E295A1}" type="slidenum">
              <a:rPr b="0" lang="ca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0BCB-BC6D-4E47-A141-1D13137681A5}" type="slidenum">
              <a:rPr b="0" lang="ca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E932-BF23-40B7-BAE9-A173955DFCE8}" type="slidenum">
              <a:rPr b="0" lang="ca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2082-578B-4683-B218-6668D998F162}" type="slidenum">
              <a:rPr b="0" lang="ca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121428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572314"/>
                </a:solidFill>
                <a:latin typeface="Gill Sans MT"/>
              </a:rPr>
              <a:t>ANTONIO  MACHADO</a:t>
            </a:r>
            <a:endParaRPr b="0" lang="en-US" sz="4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857160" y="278604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320e04"/>
                </a:solidFill>
                <a:latin typeface="Gill Sans MT"/>
              </a:rPr>
              <a:t>“ </a:t>
            </a:r>
            <a:r>
              <a:rPr b="1" i="1" lang="ca-ES" sz="2600" spc="-1" strike="noStrike">
                <a:solidFill>
                  <a:srgbClr val="320e04"/>
                </a:solidFill>
                <a:latin typeface="Gill Sans MT"/>
              </a:rPr>
              <a:t>Antologia de poemas de Machado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8 CuadroTexto"/>
          <p:cNvSpPr/>
          <p:nvPr/>
        </p:nvSpPr>
        <p:spPr>
          <a:xfrm>
            <a:off x="7215120" y="62866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Gill Sans MT"/>
              </a:rPr>
              <a:t>Eliana Benavent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572314"/>
                </a:solidFill>
                <a:latin typeface="Gill Sans MT"/>
              </a:rPr>
              <a:t>Comentario de texto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429000" y="21430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Comenta tres poemas diferent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Bar dir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A un olmo se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600" y="1523880"/>
            <a:ext cx="335124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l olmo viejo, hendido por el ray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en su mitad podrido, co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las lluvias de abril y el sol de may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lgunas hojas verdes le han salido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¡El olmo centenario en la colin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lame el Duero! U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musgo amarillen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le mancha la corteza blanquecin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l tronco carcomido y polvoriento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No será, cual los álamos cantor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guardan el camino y la riber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abitado de pardos ruiseñore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jército de hormigas en hiler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929120" y="150012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va trepando por él, y en sus entraña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urden sus telas grises las araña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ntes que te derribe, olmo del Duero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on su hacha el leñador, y el carpinter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te convierta en melena de campana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lanza de carro o yugo de carreta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ntes que rojo en el hogar, mañan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rdas en alguna mísera caset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l borde de un camino; antes que t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scuaje un torbellin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tronche el soplo de las sierra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blancas; antes que el río hasta la mar te empuj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3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3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428480" y="642600"/>
            <a:ext cx="7497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te poema se centra en la descripción de un olm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ransmitir la pena que da el árbol agonizante, que ya es viejo y pronto será destruid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tema principal es la descripción sensible y patética de un viejo olmo, del cual resurge su vida gracias a la primave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 primavera tiene un doble significado, refiriéndose metafóricamente a la juventud, fresca y vit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parecen hipérbaton, aliteraciones, anáforas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Retrat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600" y="1523880"/>
            <a:ext cx="35658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Mi infancia son recuerdos de un patio de Sevill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un huerto claro donde madura el limonero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mi juventud, veinte años en tierras de Castilla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mi historia, algunos casos que recordar no quiero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Ni un seductor Mañara, ni un Bradomín he sid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-ya conocéis mi torpe aliño indumentario-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más recibí la flecha que me asignó Cupido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amé cuanto ellas puedan tener de hospitalario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071680" y="1523880"/>
            <a:ext cx="386244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ay en mis venas gotas de sangre jacobin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ero mi verso brota de manantial sereno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, más que un hombre al uso que sabe su doctrin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soy, en el buen sentido de la palabra, bueno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doro la hermosura, y en la moderna estétic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orté las viejas rosas del huerto de Ronsard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mas no amo los afeites de la actual cosmétic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ni soy un ave de esas del nuevo gay-trinar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428480" y="357120"/>
            <a:ext cx="749772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achado nos cuenta su vida desde su infancia hasta ese “último viaje” que será su muerte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poema es una autobiografía del poet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 descubre así a un “hombre bueno” que ha querido dejar tras de sí una obra importante y quiere partir libre “como los hijos de la mar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parecen metáforas, paralelismos, anáforas, comparaciones entre otras figuras retóric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i="1" lang="ca-ES" sz="3900" spc="-1" strike="noStrike">
                <a:solidFill>
                  <a:srgbClr val="572314"/>
                </a:solidFill>
                <a:latin typeface="Gill Sans MT"/>
              </a:rPr>
              <a:t>He andado muchos caminos…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e andado muchos camino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e abierto muchas veredas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e navegado en cien mare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atracado en cien ribera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n todas partes he vist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aravanas de tristez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soberbios y melancólico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borrachos de sombra negr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pedantones al pañ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miran, callan, y piensa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saben, porque no bebe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l vino de las taberna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Mala gente que camin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va apestando la tierra..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714920" y="1571400"/>
            <a:ext cx="3657600" cy="46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en todas partes he vist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gentes que danzan o juegan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uando pueden, y labora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sus cuatro palmos de tierra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Nunca, si llegan a un sitio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reguntan a dónde llegan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uando caminan, cabalga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 lomos de mula viej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no conocen la pris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ni aun en los días de fiesta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onde hay vino, beben vino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onde no hay vino, agua fresca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Son buenas gentes que viven, laboran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3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00"/>
                                        <p:tgtEl>
                                          <p:spTgt spid="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00"/>
                                        <p:tgtEl>
                                          <p:spTgt spid="3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3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3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428480" y="357120"/>
            <a:ext cx="749772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ranscurso imparable de la vida; y la diversidad de modos de afrontarla. La búsqueda de la propia identidad y felici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su viaje por la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vida y por su interior no ha conseguido ser en plenitu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parecen experiencias negativas y positivas a lo largo de todo el poe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parecen metáforas, sinestesias, metonimias, hipérboles entre otras figuras retóric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572314"/>
                </a:solidFill>
                <a:latin typeface="Gill Sans MT"/>
              </a:rPr>
              <a:t>Genración del 98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86080" y="242892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Caracteristicas de esta generación y poema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de Campos de Castilla como ejempl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Bar dir="vert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642600"/>
            <a:ext cx="749952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accionan contra la retórica, el prosaísmo y la grandilocuencia de la literatura anterior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importa el contenido e intentan que éste llegue al lector de la manera más clara posibl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uidan la forma de su pros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cogen palabras que están en desuso y las incluyen en sus escrito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visión subjetiva (emotiva o intelectual), entonación lírica y sentiment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socian el paisaje al estado de ánim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Campos de Soria  V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523880"/>
            <a:ext cx="37800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¡Colinas plateada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grises alcores, cárdenas roqueda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or donde traza el Duer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su curva de ballest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n torno a Soria, obscuros encinare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riscos pedregales, calvas sierra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aminos blancos y álamos del río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tardes de Soria, mística y guerrer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oy siento por vosotros, en el fond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l corazón, tristez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tristeza que es amor! ¡Campos de Sori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onde parece que las rocas sueñan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onmigo vais! ¡Colinas plateadas, gris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lcores, cárdenas roquedas!.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071680" y="1523880"/>
            <a:ext cx="386244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Gill Sans MT"/>
              </a:rPr>
              <a:t>En este fragmento podemos encontrar diversas caracteristicas de esta generación, como la descripción de un paisaje y la de una prosa cuidada. Tambien aparece una entonación lirica y sentimental entre otras caracteristica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00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3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3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3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572314"/>
                </a:solidFill>
                <a:latin typeface="Gill Sans MT"/>
              </a:rPr>
              <a:t>Etapas de la poesía de   Machado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643200" y="3857400"/>
            <a:ext cx="5214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3000"/>
          </a:bodyPr>
          <a:p>
            <a:pPr marL="1440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Tres etapas diferentes que marcan su poesí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Ba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572314"/>
                </a:solidFill>
                <a:latin typeface="Gill Sans MT"/>
              </a:rPr>
              <a:t>Clasificación de los </a:t>
            </a:r>
            <a:br>
              <a:rPr sz="4000"/>
            </a:br>
            <a:r>
              <a:rPr b="1" i="1" lang="ca-ES" sz="4000" spc="-1" strike="noStrike">
                <a:solidFill>
                  <a:srgbClr val="572314"/>
                </a:solidFill>
                <a:latin typeface="Gill Sans MT"/>
              </a:rPr>
              <a:t>poemas de paisaj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57720" y="3071520"/>
            <a:ext cx="640080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Poema de ejemplo de cada grupo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acompañado por su justificació correspondi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Bar dir="vert"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Descripción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28480"/>
            <a:ext cx="37087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ca-ES" sz="1800" spc="-1" strike="noStrike">
                <a:solidFill>
                  <a:srgbClr val="000000"/>
                </a:solidFill>
                <a:latin typeface="Gill Sans MT"/>
              </a:rPr>
              <a:t>Campos de Soria VI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¡Colinas plateada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grises alcores, cárdenas roqueda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or donde traza el Duer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su curva de ballest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n torno a Soria, obscuros encinare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riscos pedregales, calvas sierra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aminos blancos y álamos del río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tardes de Soria, mística y guerrer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oy siento por vosotros, en el fond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l corazón, tristez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tristeza que es amor! ¡Campos d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Sori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onde parece que las rocas sueñan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onmigo vais! ¡Colinas plateadas, gris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lcores, cárdenas roquedas!..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071680" y="1523880"/>
            <a:ext cx="386244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Gill Sans MT"/>
              </a:rPr>
              <a:t>Este poema es una bella descripcion del paisaje de Soria con el que se identifica el auto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00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00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8" dur="500"/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500"/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00"/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500"/>
                                        <p:tgtEl>
                                          <p:spTgt spid="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500"/>
                                        <p:tgtEl>
                                          <p:spTgt spid="3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3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500"/>
                                        <p:tgtEl>
                                          <p:spTgt spid="3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500"/>
                                        <p:tgtEl>
                                          <p:spTgt spid="3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Impresión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ca-ES" sz="1800" spc="-1" strike="noStrike">
                <a:solidFill>
                  <a:srgbClr val="000000"/>
                </a:solidFill>
                <a:latin typeface="Gill Sans MT"/>
              </a:rPr>
              <a:t>Fue una clara tarde …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Fue una clara tarde, triste y soñolient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tarde de verano. La hiedra asomaba al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muro del parque, negra y polvorienta...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La fuente sonaba.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Rechinó en la vieja cancela mi llave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on agrio ruido abriendóse la puert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 hierro mohoso y, al cerrarse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grave golpeó el silencio de la tarde muerta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n el solitario parque, la sonora copi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borbollante del agua cantor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me guió a la fuente 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Este poema a partir de la contemplacion de un paisaje, al autor le producen una serie de conocimientos como la añoranza entre otr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6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1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500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6" dur="500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500"/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1" dur="500"/>
                                        <p:tgtEl>
                                          <p:spTgt spid="3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Proyección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34600" y="1523880"/>
            <a:ext cx="39942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ca-ES" sz="1700" spc="-1" strike="noStrike">
                <a:solidFill>
                  <a:srgbClr val="000000"/>
                </a:solidFill>
                <a:latin typeface="Gill Sans MT"/>
              </a:rPr>
              <a:t>El limonero lánguido suspende 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l limonero lánguido suspend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una pálida rama polvorient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sobre el encanto de la fuente limpi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allá en el fondo sueña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los frutos de oro..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s una tarde clar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asi de primaver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tibia tarde de marz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el hálito de abril cercano lleva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estoy solo, en el patio silencioso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buscando una ilusión cándida y vieja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lguna sombra sobre el blanco muro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lgún recuerdo, en el pretil de piedr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En este poema utiliza el paisaje como vinculo entre su estado de anim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9" dur="500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4" dur="500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4" dur="500"/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9" dur="500"/>
                                        <p:tgtEl>
                                          <p:spTgt spid="3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4" dur="500"/>
                                        <p:tgtEl>
                                          <p:spTgt spid="3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00"/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572314"/>
                </a:solidFill>
                <a:latin typeface="Gill Sans MT"/>
              </a:rPr>
              <a:t>Comparación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357720" y="250020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Comparación de dos poemas de la primera y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segunda etap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Bar dir="vert"/>
  </p:transition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428840" y="1428840"/>
            <a:ext cx="3357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Gill Sans MT"/>
              </a:rPr>
              <a:t>Pasan las horas de hastío…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asan las horas de hastí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or la estancia familiar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l amplio cuarto sombrí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onde yo empecé a soña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l reloj arrinconado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en la penumbra clare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l tictac acompasad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odiosamente golpe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ice la monotoní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l agua clara al caer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un día es como otro día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oy es lo mismo que aye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ae la tarde. El viento agit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928760" y="1500120"/>
            <a:ext cx="36435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Gill Sans MT"/>
              </a:rPr>
              <a:t>Orillas del Duer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300" spc="-1" strike="noStrike">
                <a:solidFill>
                  <a:srgbClr val="000000"/>
                </a:solidFill>
                <a:latin typeface="Gill Sans MT"/>
              </a:rPr>
              <a:t>¡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rimavera soriana, primaver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umilde, como el sueño de un bendito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 un pobre caminante que durmier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 cansancio en un páramo infinito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¡Campillo amarillento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omo tosco sayal de campesin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radera de velludo polvorient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onde pace la escuálida merina!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¡Aquellos diminuto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egujales de tierra dura y frí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onde apuntan centenos y trigal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el pan moreno nos darán un día!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12 CuadroTexto"/>
          <p:cNvSpPr/>
          <p:nvPr/>
        </p:nvSpPr>
        <p:spPr>
          <a:xfrm>
            <a:off x="1143000" y="78588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58d01"/>
                </a:solidFill>
                <a:latin typeface="Gill Sans MT"/>
              </a:rPr>
              <a:t>Primera etap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a-ES" sz="2800" spc="-1" strike="noStrike">
              <a:solidFill>
                <a:srgbClr val="c58d01"/>
              </a:solidFill>
              <a:latin typeface="Gill Sans MT"/>
            </a:endParaRPr>
          </a:p>
        </p:txBody>
      </p:sp>
      <p:sp>
        <p:nvSpPr>
          <p:cNvPr id="384" name="16 CuadroTexto"/>
          <p:cNvSpPr/>
          <p:nvPr/>
        </p:nvSpPr>
        <p:spPr>
          <a:xfrm>
            <a:off x="4643280" y="785880"/>
            <a:ext cx="32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58d01"/>
                </a:solidFill>
                <a:latin typeface="Gill Sans MT"/>
              </a:rPr>
              <a:t>Segunda etap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3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3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3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3" dur="500"/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8" dur="500"/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500"/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00"/>
                                        <p:tgtEl>
                                          <p:spTgt spid="3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500"/>
                                        <p:tgtEl>
                                          <p:spTgt spid="3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3" dur="500"/>
                                        <p:tgtEl>
                                          <p:spTgt spid="3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8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8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3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8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5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8" dur="500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500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500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500"/>
                                        <p:tgtEl>
                                          <p:spTgt spid="3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500"/>
                                        <p:tgtEl>
                                          <p:spTgt spid="3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3" dur="500"/>
                                        <p:tgtEl>
                                          <p:spTgt spid="3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3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500"/>
                                        <p:tgtEl>
                                          <p:spTgt spid="3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434960" y="642600"/>
            <a:ext cx="3657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En el primer poema podemos encontrar una poesía más intimista, mucho más emcion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Aparece ligeramente la añoranza por la juventut y por otro nla cercania de la muert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072040" y="642600"/>
            <a:ext cx="3657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En el segundo poema en cambio encontramos la descripción de los paisajes más próximos al autor, los cuales reflejan les emociones y el estado de ánimo del sentimient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572314"/>
                </a:solidFill>
                <a:latin typeface="Gill Sans MT"/>
              </a:rPr>
              <a:t>Simbologia de Machado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286080" y="2571480"/>
            <a:ext cx="640080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Destaca cinco simbolos, explicalos 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busca ejempl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Bar dir="vert"/>
  </p:transition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428480" y="428760"/>
            <a:ext cx="749772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los simbolos que utiliza Machado pueden tener diverses lecturas y significado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entre estos destaca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Gill Sans MT"/>
              </a:rPr>
              <a:t>paso del tiempo</a:t>
            </a: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: la infancia, el reloj, los caminos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Gill Sans MT"/>
              </a:rPr>
              <a:t>la monotomia</a:t>
            </a: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: la noria, el mundo infantil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Gill Sans MT"/>
              </a:rPr>
              <a:t>la muerte</a:t>
            </a: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: las campanas, los cementerios, los cipreses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Gill Sans MT"/>
              </a:rPr>
              <a:t>la vida: </a:t>
            </a: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los rios, el agua (cuando brota)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Gill Sans MT"/>
              </a:rPr>
              <a:t>poesias y poetas</a:t>
            </a: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: abejas (poetas), la miel (poemas)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3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Paso del tiemp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Gill Sans MT"/>
              </a:rPr>
              <a:t>Pasan las horas de hastío…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asan las </a:t>
            </a:r>
            <a:r>
              <a:rPr b="0" i="1" lang="es-ES" sz="1800" spc="-1" strike="noStrike">
                <a:solidFill>
                  <a:srgbClr val="c58d01"/>
                </a:solidFill>
                <a:latin typeface="Gill Sans MT"/>
              </a:rPr>
              <a:t>horas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de hastí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or la estancia familiar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l amplio cuarto sombrí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onde yo empecé a soña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l </a:t>
            </a:r>
            <a:r>
              <a:rPr b="0" i="1" lang="es-ES" sz="1800" spc="-1" strike="noStrike">
                <a:solidFill>
                  <a:srgbClr val="c58d01"/>
                </a:solidFill>
                <a:latin typeface="Gill Sans MT"/>
              </a:rPr>
              <a:t>reloj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arrinconado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en la penumbra clare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l tictac acompasad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odiosamente golpe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ice la monotoní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l </a:t>
            </a:r>
            <a:r>
              <a:rPr b="0" i="1" lang="es-ES" sz="1800" spc="-1" strike="noStrike">
                <a:solidFill>
                  <a:srgbClr val="c58d01"/>
                </a:solidFill>
                <a:latin typeface="Gill Sans MT"/>
              </a:rPr>
              <a:t>agua clara al caer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un día es como otro día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000760" y="1571760"/>
            <a:ext cx="40003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es-ES" sz="1800" spc="-1" strike="noStrike">
                <a:solidFill>
                  <a:srgbClr val="000000"/>
                </a:solidFill>
                <a:latin typeface="Gill Sans MT"/>
              </a:rPr>
              <a:t>Es una tarde cenicienta y </a:t>
            </a:r>
            <a:r>
              <a:rPr b="1" i="1" lang="es-ES" sz="1600" spc="-1" strike="noStrike">
                <a:solidFill>
                  <a:srgbClr val="000000"/>
                </a:solidFill>
                <a:latin typeface="Gill Sans MT"/>
              </a:rPr>
              <a:t>musti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s una </a:t>
            </a:r>
            <a:r>
              <a:rPr b="0" i="1" lang="es-ES" sz="1800" spc="-1" strike="noStrike">
                <a:solidFill>
                  <a:srgbClr val="c58d01"/>
                </a:solidFill>
                <a:latin typeface="Gill Sans MT"/>
              </a:rPr>
              <a:t>tarde 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enicienta y musti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startalada, como el alma mía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es esta vieja angusti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habita mi usual hipocondría.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La causa de esta angustia no consig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ni vagamente comprender siquiera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pero recuerdo y, recordando, digo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—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Sí, yo era niño, y tú, mi compañera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no es verdad, dolor, yo te conozco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tú eres nostalgia de la vida buen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soledad de corazón sombrío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de barco sin naufragio y sin estrella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omo perro olvidado que no tien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uella ni olfato y yerr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8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3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3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8" dur="5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3" dur="5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8" dur="500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3" dur="500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8" dur="500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500"/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8" dur="500"/>
                                        <p:tgtEl>
                                          <p:spTgt spid="3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3" dur="500"/>
                                        <p:tgtEl>
                                          <p:spTgt spid="3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8" dur="500"/>
                                        <p:tgtEl>
                                          <p:spTgt spid="3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3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3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3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3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3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3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3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Primera etap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i="1" lang="ca-ES" sz="3200" spc="-1" strike="noStrike">
                <a:solidFill>
                  <a:srgbClr val="000000"/>
                </a:solidFill>
                <a:latin typeface="Gill Sans MT"/>
              </a:rPr>
              <a:t>Soledades”</a:t>
            </a:r>
            <a:r>
              <a:rPr b="1" lang="ca-ES" sz="3200" spc="-1" strike="noStrike">
                <a:solidFill>
                  <a:srgbClr val="000000"/>
                </a:solidFill>
                <a:latin typeface="Gill Sans MT"/>
              </a:rPr>
              <a:t> (1902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destaca la emoción del momento y el sentido oculto de lo que le rode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hombre maduro que evoca la juventud perdida, es decir, añoranza de la niñez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temas que destacan: tiempo, soledad, muerte, paso del tiempo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ca-ES" sz="2800" spc="-1" strike="noStrike">
                <a:solidFill>
                  <a:srgbClr val="000000"/>
                </a:solidFill>
                <a:latin typeface="Gill Sans MT"/>
              </a:rPr>
              <a:t>Soledades, galerías y otros poemas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572314"/>
                </a:solidFill>
                <a:latin typeface="Gill Sans MT"/>
              </a:rPr>
              <a:t>Tema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214800" y="242892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Desarrolla un tema a través del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analisis de un poe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Bar dir="vert"/>
  </p:transition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La vida como camin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34960" y="1523520"/>
            <a:ext cx="3657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Gill Sans MT"/>
              </a:rPr>
              <a:t>He andado muchos caminos.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e andado muchos camino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e abierto muchas veredas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e navegado en cien mare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atracado en cien ribera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n todas partes he vist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aravanas de tristez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soberbios y melancólico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borrachos de sombra negr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pedantones al pañ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miran, callan, y piensa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saben, porque no bebe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l vino de las taberna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Mala gente que camin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va apestando la tierra..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786200" y="164304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Este poema es un claro ejemplo de como a tanscurrido su vida, la vida como un camino que llega a su fi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5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0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5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0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5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0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5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0" dur="500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5" dur="500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0" dur="500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5" dur="500"/>
                                        <p:tgtEl>
                                          <p:spTgt spid="3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500"/>
                                        <p:tgtEl>
                                          <p:spTgt spid="3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5" dur="500"/>
                                        <p:tgtEl>
                                          <p:spTgt spid="3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500"/>
                                        <p:tgtEl>
                                          <p:spTgt spid="3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5" dur="500"/>
                                        <p:tgtEl>
                                          <p:spTgt spid="3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0" dur="500"/>
                                        <p:tgtEl>
                                          <p:spTgt spid="3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2133720"/>
            <a:ext cx="81532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5000" spc="-1" strike="noStrike">
                <a:solidFill>
                  <a:srgbClr val="3b1d15"/>
                </a:solidFill>
                <a:latin typeface="Gill Sans MT"/>
              </a:rPr>
              <a:t>Fin!</a:t>
            </a:r>
            <a:endParaRPr b="0" lang="en-US" sz="15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dissolve/>
  </p:transition>
  <p:timing>
    <p:tnLst>
      <p:par>
        <p:cTn id="1757" dur="indefinite" restart="never" nodeType="tmRoot">
          <p:childTnLst>
            <p:seq>
              <p:cTn id="1758" dur="indefinite" nodeType="mainSeq">
                <p:childTnLst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62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Segunda etap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i="1" lang="ca-ES" sz="3200" spc="-1" strike="noStrike">
                <a:solidFill>
                  <a:srgbClr val="000000"/>
                </a:solidFill>
                <a:latin typeface="Gill Sans MT"/>
              </a:rPr>
              <a:t>Campos de Castilla” </a:t>
            </a:r>
            <a:r>
              <a:rPr b="1" lang="ca-ES" sz="3200" spc="-1" strike="noStrike">
                <a:solidFill>
                  <a:srgbClr val="000000"/>
                </a:solidFill>
                <a:latin typeface="Gill Sans MT"/>
              </a:rPr>
              <a:t>(1912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bandona el lenguaje modernista y preocupación por los temas del mundo exterio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el paisaje de Castilla cobra humanidad siendo un reflejo de las inquietudes del auto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su poesía tiene una mayor objetividad, sin perder el enfoque intimist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Tercera etap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i="1" lang="ca-ES" sz="3200" spc="-1" strike="noStrike">
                <a:solidFill>
                  <a:srgbClr val="000000"/>
                </a:solidFill>
                <a:latin typeface="Gill Sans MT"/>
              </a:rPr>
              <a:t>Nuevas Canciones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poesía profunda donde las ideas sustituyen al paisaj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esta es su obra más intimist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Gill Sans MT"/>
              </a:rPr>
              <a:t>escribió teatro junto en a su hermano Manu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572314"/>
                </a:solidFill>
                <a:latin typeface="Gill Sans MT"/>
              </a:rPr>
              <a:t>Vocabulario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214800" y="3285720"/>
            <a:ext cx="6400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320e04"/>
                </a:solidFill>
                <a:latin typeface="Gill Sans MT"/>
              </a:rPr>
              <a:t>Significado de diez palabras de distintos poem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Bar dir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300" spc="-1" strike="noStrike">
                <a:solidFill>
                  <a:srgbClr val="572314"/>
                </a:solidFill>
                <a:latin typeface="Gill Sans MT"/>
              </a:rPr>
              <a:t>Campo de Sor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000000"/>
                </a:solidFill>
                <a:latin typeface="Gill Sans MT"/>
              </a:rPr>
              <a:t>VI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1900" spc="-1" strike="noStrike">
                <a:solidFill>
                  <a:srgbClr val="000000"/>
                </a:solidFill>
                <a:latin typeface="Gill Sans MT"/>
              </a:rPr>
              <a:t>¡</a:t>
            </a: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Colinas plateadas,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grises </a:t>
            </a:r>
            <a:r>
              <a:rPr b="0" i="1" lang="es-ES" sz="1700" spc="-1" strike="noStrike" u="sng">
                <a:solidFill>
                  <a:srgbClr val="2a6d7d"/>
                </a:solidFill>
                <a:uFillTx/>
                <a:latin typeface="Gill Sans MT"/>
              </a:rPr>
              <a:t>alcores,</a:t>
            </a:r>
            <a:r>
              <a:rPr b="0" i="1" lang="es-ES" sz="1700" spc="-1" strike="noStrike">
                <a:solidFill>
                  <a:srgbClr val="2a6d7d"/>
                </a:solidFill>
                <a:latin typeface="Gill Sans MT"/>
              </a:rPr>
              <a:t> </a:t>
            </a:r>
            <a:r>
              <a:rPr b="0" i="1" lang="es-ES" sz="1700" spc="-1" strike="noStrike" u="sng">
                <a:solidFill>
                  <a:srgbClr val="2a6d7d"/>
                </a:solidFill>
                <a:uFillTx/>
                <a:latin typeface="Gill Sans MT"/>
              </a:rPr>
              <a:t>cárdenas</a:t>
            </a:r>
            <a:r>
              <a:rPr b="0" i="1" lang="es-ES" sz="1700" spc="-1" strike="noStrike">
                <a:solidFill>
                  <a:srgbClr val="2a6d7d"/>
                </a:solidFill>
                <a:latin typeface="Gill Sans MT"/>
              </a:rPr>
              <a:t> </a:t>
            </a:r>
            <a:r>
              <a:rPr b="0" i="1" lang="es-ES" sz="1700" spc="-1" strike="noStrike" u="sng">
                <a:solidFill>
                  <a:srgbClr val="2a6d7d"/>
                </a:solidFill>
                <a:uFillTx/>
                <a:latin typeface="Gill Sans MT"/>
              </a:rPr>
              <a:t>roquedas</a:t>
            </a:r>
            <a:r>
              <a:rPr b="0" i="1" lang="es-ES" sz="1700" spc="-1" strike="noStrike">
                <a:solidFill>
                  <a:srgbClr val="2a6d7d"/>
                </a:solidFill>
                <a:latin typeface="Gill Sans M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por donde traza el Duero […]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9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19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 u="sng">
                <a:solidFill>
                  <a:srgbClr val="000000"/>
                </a:solidFill>
                <a:uFillTx/>
                <a:latin typeface="Gill Sans MT"/>
              </a:rPr>
              <a:t>alcores: </a:t>
            </a:r>
            <a:r>
              <a:rPr b="0" lang="ca-ES" sz="2000" spc="-1" strike="noStrike">
                <a:solidFill>
                  <a:srgbClr val="000000"/>
                </a:solidFill>
                <a:latin typeface="Gill Sans MT"/>
              </a:rPr>
              <a:t> colinas o collad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 u="sng">
                <a:solidFill>
                  <a:srgbClr val="000000"/>
                </a:solidFill>
                <a:uFillTx/>
                <a:latin typeface="Gill Sans MT"/>
              </a:rPr>
              <a:t>cárdenas:</a:t>
            </a:r>
            <a:r>
              <a:rPr b="0" lang="ca-ES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 color amoratad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 u="sng">
                <a:solidFill>
                  <a:srgbClr val="000000"/>
                </a:solidFill>
                <a:uFillTx/>
                <a:latin typeface="Gill Sans MT"/>
              </a:rPr>
              <a:t>roquedas:</a:t>
            </a:r>
            <a:r>
              <a:rPr b="0" lang="ca-ES" sz="2000" spc="-1" strike="noStrike">
                <a:solidFill>
                  <a:srgbClr val="000000"/>
                </a:solidFill>
                <a:latin typeface="Gill Sans MT"/>
              </a:rPr>
              <a:t>  lugar abundante de roc</a:t>
            </a:r>
            <a:r>
              <a:rPr b="0" lang="ca-ES" sz="2200" spc="-1" strike="noStrike">
                <a:solidFill>
                  <a:srgbClr val="000000"/>
                </a:solidFill>
                <a:latin typeface="Gill Sans MT"/>
              </a:rPr>
              <a:t>a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143680" y="150012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000000"/>
                </a:solidFill>
                <a:latin typeface="Gill Sans MT"/>
              </a:rPr>
              <a:t>VII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ca-ES" sz="1700" spc="-1" strike="noStrike">
                <a:solidFill>
                  <a:srgbClr val="000000"/>
                </a:solidFill>
                <a:latin typeface="Gill Sans MT"/>
              </a:rPr>
              <a:t>[...] </a:t>
            </a: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tras las murallas viejas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de Soria ?</a:t>
            </a:r>
            <a:r>
              <a:rPr b="0" i="1" lang="es-ES" sz="1700" spc="-1" strike="noStrike" u="sng">
                <a:solidFill>
                  <a:srgbClr val="2a6d7d"/>
                </a:solidFill>
                <a:uFillTx/>
                <a:latin typeface="Gill Sans MT"/>
              </a:rPr>
              <a:t>barbacana</a:t>
            </a: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hacia Aragón, en castellana tierra?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Estos </a:t>
            </a:r>
            <a:r>
              <a:rPr b="0" i="1" lang="es-ES" sz="1700" spc="-1" strike="noStrike" u="sng">
                <a:solidFill>
                  <a:srgbClr val="2a6d7d"/>
                </a:solidFill>
                <a:uFillTx/>
                <a:latin typeface="Gill Sans MT"/>
              </a:rPr>
              <a:t>chopos</a:t>
            </a: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 del río, que acompañan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1700" spc="-1" strike="noStrike">
                <a:solidFill>
                  <a:srgbClr val="000000"/>
                </a:solidFill>
                <a:latin typeface="Gill Sans MT"/>
              </a:rPr>
              <a:t>con el sonido de sus hojas secas […]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 u="sng">
                <a:solidFill>
                  <a:srgbClr val="000000"/>
                </a:solidFill>
                <a:uFillTx/>
                <a:latin typeface="Gill Sans MT"/>
              </a:rPr>
              <a:t>barbacana: 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uro bajo con que se suelen rodear las plazuel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Gill Sans MT"/>
              </a:rPr>
              <a:t>chopos:  </a:t>
            </a:r>
            <a:r>
              <a:rPr b="0" lang="es-ES" sz="1900" spc="-1" strike="noStrike">
                <a:solidFill>
                  <a:srgbClr val="000000"/>
                </a:solidFill>
                <a:latin typeface="Gill Sans MT"/>
              </a:rPr>
              <a:t>nombre con el que se designan varias especies de álamo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300" spc="-1" strike="noStrike">
                <a:solidFill>
                  <a:srgbClr val="572314"/>
                </a:solidFill>
                <a:latin typeface="Gill Sans MT"/>
              </a:rPr>
              <a:t>He andado muchos caminos..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e andado muchos camino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e abierto muchas </a:t>
            </a:r>
            <a:r>
              <a:rPr b="0" i="1" lang="es-ES" sz="1800" spc="-1" strike="noStrike" u="sng">
                <a:solidFill>
                  <a:srgbClr val="2a6d7d"/>
                </a:solidFill>
                <a:uFillTx/>
                <a:latin typeface="Gill Sans MT"/>
              </a:rPr>
              <a:t>veredas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he navegado en cien mares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atracado en cien riberas. […]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Gill Sans MT"/>
              </a:rPr>
              <a:t>veradas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:  frent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[…] y </a:t>
            </a:r>
            <a:r>
              <a:rPr b="0" i="1" lang="es-ES" sz="1800" spc="-1" strike="noStrike" u="sng">
                <a:solidFill>
                  <a:srgbClr val="2a6d7d"/>
                </a:solidFill>
                <a:uFillTx/>
                <a:latin typeface="Gill Sans MT"/>
              </a:rPr>
              <a:t>pedantones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al pañ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miran, callan, y piensa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saben, porque no bebe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l vino de las tabernas. 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00"/>
                </a:solidFill>
                <a:uFillTx/>
                <a:latin typeface="Gill Sans MT"/>
              </a:rPr>
              <a:t>pedantones: </a:t>
            </a:r>
            <a:r>
              <a:rPr b="0" lang="ca-ES" sz="2200" spc="-1" strike="noStrike">
                <a:solidFill>
                  <a:srgbClr val="000000"/>
                </a:solidFill>
                <a:latin typeface="Gill Sans MT"/>
              </a:rPr>
              <a:t>no he encontrado ningún significado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756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i="1" lang="ca-ES" sz="3900" spc="-1" strike="noStrike">
                <a:solidFill>
                  <a:srgbClr val="572314"/>
                </a:solidFill>
                <a:latin typeface="Gill Sans MT"/>
              </a:rPr>
              <a:t>El limonero lánguido suspende …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523880"/>
            <a:ext cx="37800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l limonero </a:t>
            </a:r>
            <a:r>
              <a:rPr b="0" i="1" lang="es-ES" sz="1800" spc="-1" strike="noStrike" u="sng">
                <a:solidFill>
                  <a:srgbClr val="2a6d7d"/>
                </a:solidFill>
                <a:uFillTx/>
                <a:latin typeface="Gill Sans MT"/>
              </a:rPr>
              <a:t>lánguido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suspend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una pálida rama polvorient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sobre el encanto de la fuente limpi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allá en el fondo sueña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los frutos de oro..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Es una tarde clar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casi de primavera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tibia tarde de marzo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que el </a:t>
            </a:r>
            <a:r>
              <a:rPr b="0" i="1" lang="es-ES" sz="1800" spc="-1" strike="noStrike" u="sng">
                <a:solidFill>
                  <a:srgbClr val="2a6d7d"/>
                </a:solidFill>
                <a:uFillTx/>
                <a:latin typeface="Gill Sans MT"/>
              </a:rPr>
              <a:t>hálito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de abril cercano lleva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y estoy solo, en el patio silencioso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buscando una ilusión cándida y vieja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lguna sombra sobre el blanco muro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algún recuerdo, en el </a:t>
            </a:r>
            <a:r>
              <a:rPr b="0" i="1" lang="es-ES" sz="1800" spc="-1" strike="noStrike" u="sng">
                <a:solidFill>
                  <a:srgbClr val="2a6d7d"/>
                </a:solidFill>
                <a:uFillTx/>
                <a:latin typeface="Gill Sans MT"/>
              </a:rPr>
              <a:t>pretil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de piedr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857840" y="150012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Gill Sans MT"/>
              </a:rPr>
              <a:t>lánguido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 poco espíritu,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lor o energí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00"/>
                </a:solidFill>
                <a:uFillTx/>
                <a:latin typeface="Gill Sans MT"/>
              </a:rPr>
              <a:t>hálito:</a:t>
            </a:r>
            <a:r>
              <a:rPr b="0" lang="ca-ES" sz="2200" spc="-1" strike="noStrike">
                <a:solidFill>
                  <a:srgbClr val="000000"/>
                </a:solidFill>
                <a:latin typeface="Gill Sans MT"/>
              </a:rPr>
              <a:t> aliento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Gill Sans MT"/>
              </a:rPr>
              <a:t>pretil: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urete o vallado de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iedra u otra materia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que se pone en lo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uentes y en otro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ugares para preservar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 caída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sh dir="r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8:59:24Z</dcterms:created>
  <dc:creator>Nahi</dc:creator>
  <dc:description/>
  <dc:language>en-US</dc:language>
  <cp:lastModifiedBy>ELIANA</cp:lastModifiedBy>
  <dcterms:modified xsi:type="dcterms:W3CDTF">2009-02-20T22:46:01Z</dcterms:modified>
  <cp:revision>67</cp:revision>
  <dc:subject/>
  <dc:title>ANTONIO  MACHADO</dc:title>
</cp:coreProperties>
</file>